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explode.wav" ContentType="audio/x-wav"/>
  <Override PartName="/ppt/media/image6.png" ContentType="image/png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051D-F990-4DA2-A526-62808AD792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9157-F9B4-4FEB-978B-71F5BDC157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0A8-B616-41F7-9BDF-1807CFF5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F268-F93C-4D33-9DD3-12779C5E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D88E-2BF3-49D2-AA9D-EE604B94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29D-9993-4293-ACD3-1CB1A924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0FAB-715B-4C17-90BE-53F15E39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6220-B4CA-4B9B-BC13-230E3F9C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3FF1-51F4-4EA5-8D6D-1ABC74AE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F3B1-A42F-4BB4-B64D-FD7B7D4C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87C4-DFB2-4BAF-800B-03447E22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0A84-68EF-46B8-BAA2-D5C5F71B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ECA7-0AB8-42F7-8CFD-A1F56895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4002-9610-4A74-BABD-A0A6ABD6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5CC7-C8C8-4A8D-B029-7314ADE8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A10B-EAA6-4931-83BF-BE96BAFD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1199-2278-4F98-83B7-C6C8DD3E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A2E9-B2DD-439A-8B26-08BD67FC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5A49-8AF1-4FFC-BED9-60201113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D8E-D169-4F8E-956E-0AA2750D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C37-C9B1-43DD-A7DE-6C3CF783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5F0-EEB1-49C1-A97C-D8E5FC01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192A-6018-4DE4-A504-1F848BA1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4FE-A40F-4A2D-AFA5-B21DB486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DCF-4DF4-4716-A49C-94E30554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43FE-76DA-4161-8B36-72B250F7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1BC1-D5AA-4824-95A6-30B74E155405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8FF7-7346-43C3-908D-3EFDC11CDC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7775-3B89-4147-9C95-AAB08CFC94ED}" type="datetime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FBDB-309C-46DB-8FCF-8BD1D8484A12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4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4528-69BB-4CB3-BA31-FCA50EB69318}" type="datetime">
              <a:rPr b="0" lang="en-GB" sz="1400" spc="-1" strike="noStrike">
                <a:solidFill>
                  <a:srgbClr val="1c1c1c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CEDE-FFEE-4535-9C36-4D7C6EC0826E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itler's Economic Pol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191120" y="29714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How Hitler Transformed the German Econo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52280" y="5486400"/>
            <a:ext cx="27432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By Mr Walk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http://gcsehistory.cjb.net</a:t>
            </a:r>
            <a:br>
              <a:rPr sz="1800"/>
            </a:br>
            <a:r>
              <a:rPr b="0" lang="en-GB" sz="1400" spc="-1" strike="noStrike">
                <a:solidFill>
                  <a:srgbClr val="ff0000"/>
                </a:solidFill>
                <a:latin typeface="Tahoma"/>
              </a:rPr>
              <a:t>www.SchoolHistory.co.u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0" descr="C:\My Documents\My Pictures\hitler.gif"/>
          <p:cNvPicPr/>
          <p:nvPr/>
        </p:nvPicPr>
        <p:blipFill>
          <a:blip r:embed="rId1"/>
          <a:stretch/>
        </p:blipFill>
        <p:spPr>
          <a:xfrm>
            <a:off x="4343400" y="411480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C0C3-0D3A-4546-ABFD-DA19B04F59A9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26A2-9244-44B3-99E3-7F490344449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ere people better off under the Nazi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employment fell everywhere not just in Germ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people were forced to work on public wor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 were disadvantages to SDA and KDF – workers had no repre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ers put more into the economy than they got 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you were “Aryan” and of no strong political beliefs life was relatively g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4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E262-FDA7-4B38-9258-9ABC53602E1A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Footer Placeholder 5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C159-9107-452D-9659-DAFF440D684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as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 Research a short case study factfile on Hjalmar Schacht and Herman Go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. Following further research answer the question, Was Nazi economic policy a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6" descr="C:\My Documents\My Pictures\swastika.gif"/>
          <p:cNvPicPr/>
          <p:nvPr/>
        </p:nvPicPr>
        <p:blipFill>
          <a:blip r:embed="rId1"/>
          <a:stretch/>
        </p:blipFill>
        <p:spPr>
          <a:xfrm>
            <a:off x="1600200" y="2362320"/>
            <a:ext cx="33894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4340-F76D-4D76-A13D-BEFFC3491F1F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7E4C-4781-4E34-9A96-569F358CF36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 the end of this lesson you should be able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nderstand Hitler’s priorities on coming to 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valuate the Schacht period of economic management 1933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nderstand the importance of Goering and the 4 year Plan 1936-4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valuate the success or otherwise of Nazi economic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A49F-8262-4724-9410-96E252D54237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A9E0-0B37-4309-9E50-09CFF876D48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nem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uring the election campaigns Hitler had promised to solve unemployment. This was only one of his ai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4" descr="C:\My Documents\My Pictures\brotarbeit.jpg"/>
          <p:cNvPicPr/>
          <p:nvPr/>
        </p:nvPicPr>
        <p:blipFill>
          <a:blip r:embed="rId1"/>
          <a:stretch/>
        </p:blipFill>
        <p:spPr>
          <a:xfrm>
            <a:off x="3505320" y="3124080"/>
            <a:ext cx="3189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99A7-C53A-4A88-A51A-83034E86BAE8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72AE-451D-429C-BEBB-DA34813B1A8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345680"/>
            <a:ext cx="7792920" cy="4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Hitler’s economic priorit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. Drag Germany out of the world rec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. Solve unemployment (which he had promised to d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3. Make Germany an “autarchy” – self su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4. Get rid of Jewish industrialists and give their businesses to “Aryan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4 Transform the economy to focus on rearmament and w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7363-9B91-4311-BA48-0FC93083222C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DB59-6BD5-4DE1-8B5B-072E48F22E7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jalmar Sch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chacht was President of the Reichsbank who directed German economic poli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e believed in steady growth and a stable curr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e promoted trade agreements with developing countries trading manufactured goods for cheap raw materia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e was against spending out too much on rearmament before the German economy was strong enoug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is New Plan of 1934 aimed to reduce imports into Germany and to strengthen the curr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e fell out with Hitler over the speed of rearmament and was replaced by Hermann Goering in 193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E396-2443-4796-86BA-BE199C44AAD2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CAE0-F268-4B11-BA89-537C62103B9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itler’s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erman economy can be converted into a war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ermany must rearm quickly, conquer countries by Blitzkrieg or lightening war, takeover their economies and move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quered countries would give the master race “Lebensraum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y exploiting conquered countries living standards could be maintained at home despite all the money being spent on w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1936 Goering was appointed to introduce a 4 year plan to put Hitler’s ideas into 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C:\My Documents\My Pictures\Naziflag.gif"/>
          <p:cNvPicPr/>
          <p:nvPr/>
        </p:nvPicPr>
        <p:blipFill>
          <a:blip r:embed="rId1"/>
          <a:stretch/>
        </p:blipFill>
        <p:spPr>
          <a:xfrm>
            <a:off x="3733920" y="502920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4756-B93F-4889-A3FB-5D376A2D4072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41B8-7599-4138-8808-00D5342A6B8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395360"/>
            <a:ext cx="7792920" cy="36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he aims of the 4 year Pla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peed up rearmament and make Germany ready for w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ke Germany self sufficient in raw materials “autarchy” by developing home grown substitu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251240" y="4384800"/>
            <a:ext cx="26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708440" y="4613400"/>
            <a:ext cx="268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siana"/>
              </a:rPr>
              <a:t>In 1933 total money spent on the military was 1.9 million marks by 1939 it was 32.3 million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3" descr="C:\My Documents\My Pictures\The german hero.gif"/>
          <p:cNvPicPr/>
          <p:nvPr/>
        </p:nvPicPr>
        <p:blipFill>
          <a:blip r:embed="rId1"/>
          <a:stretch/>
        </p:blipFill>
        <p:spPr>
          <a:xfrm>
            <a:off x="1905120" y="4343400"/>
            <a:ext cx="141912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EBB3-4039-4403-A408-6812AC48B898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7B5D-7B5F-447A-8F91-8F751529673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19160" y="928800"/>
            <a:ext cx="60958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What were the results of this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size of the German army grew massiv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tler became more confident and started to openly break the Treaty of Versail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489480" y="400356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352680" y="4343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ustria 193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0" y="425916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zechoslovakia 193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315840" y="4381560"/>
            <a:ext cx="98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oland 193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565440" y="529920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ld war broke ou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10" descr="C:\My Documents\My Pictures\czech38.bmp"/>
          <p:cNvPicPr/>
          <p:nvPr/>
        </p:nvPicPr>
        <p:blipFill>
          <a:blip r:embed="rId1"/>
          <a:stretch/>
        </p:blipFill>
        <p:spPr>
          <a:xfrm>
            <a:off x="1219320" y="4419720"/>
            <a:ext cx="1981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3100-D8F3-4A52-B59A-AEBCD0F1845A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EC99-F547-43ED-9418-67DC8DF0548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as the 4 year Plan a succes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employment dropped quickly 4.8 million in 1933 to 0.5 million in 193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ges rose slightly but were still lower in 1938 than they had been in 19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orking hours went up to 49 hours per week in 1939 – 52 hours in 1943 to over 60 hours per week by 19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re were fewer consumer goods (personal and household go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rade unions were replaced by “Beauty of Labour” and strength Through Joy” who organised better conditions and leisure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RRIS</dc:creator>
  <dc:description/>
  <dc:language>en-US</dc:language>
  <cp:lastModifiedBy>Rachel</cp:lastModifiedBy>
  <dcterms:modified xsi:type="dcterms:W3CDTF">2008-09-07T12:47:24Z</dcterms:modified>
  <cp:revision>10</cp:revision>
  <dc:subject/>
  <dc:title>PowerPoint Presentation</dc:title>
</cp:coreProperties>
</file>